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675-2A0D-44D7-9729-9AD781AA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D17-4E87-43A2-9DC5-80FC7E9F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43FCD-CCAC-416F-9F09-17B3BECD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A625D-E7C5-46C7-A104-00767E77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20769-AD2D-42D2-87F1-3F08EA49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C6839-3CFF-4730-A0EA-423CCE2D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9B350-F82F-438C-BEAE-5352EDBD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2923C-3982-4DB0-9FFE-8FBC441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C3D0F-A739-471F-A8A4-7D1A85B4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8EA10-6E72-48E0-9F9A-C5435C88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924CC-1DBB-43D5-A8E7-DAF4D3F5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85DBF-ACC6-4036-98AE-BBC5E81C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9D8-8E2C-4BEC-8972-008521DB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44DEB-8619-41ED-8E62-9047393E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3AC28-0708-4E3B-A361-94AD2417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936C7-8D27-4591-94D5-F7831CC0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A27A9-D78C-43C8-9501-9FB43ADD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393EE-A045-4461-A3ED-63C5BFF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F1E91-8E1C-4CF8-B66C-0F9B939A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CBDE0-3746-4B57-9F25-A197EC62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7A978-B474-40EF-BF56-9F0EC88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EB9FA-D586-406D-9DC6-87A904BC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9FDF2-9D5C-4095-8E38-8F9FD9A3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587-0AF2-4B01-BC24-043BDA9D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C51B1-3926-43DB-80A4-429B9BC4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4865D-2178-46E9-8CD7-8248F224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5BF85-AA12-4DE0-8FAE-FE19A280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9297B-7E10-4489-8C6A-55D3AA26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94FC1-FD67-4F36-AE37-A2EA7EE5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EE5B2-0186-4940-BFEC-71A242B0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DCC7F-3DB0-43C9-A2B5-2F3BA75D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DFC49-664E-4719-8469-6C0D7E63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AF809-30D2-49F6-B597-2D6F693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FC1A7-DD36-497C-AE1D-67FF261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FA69-5508-4ECF-AA2D-2660A872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26D05-7162-40C7-99BA-C74256C5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DB9E0-FB43-4E2E-837D-7E204BD7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781A1-2536-49A0-ABE2-CF3E631A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7464A-2AFA-4D5A-A181-9D8EF664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27E21-A2B0-448A-AD10-98645E2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B7504-034A-462B-AFC1-46D1A41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F30D5-86DB-4194-86CB-E28E607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B61BF-7E49-4E58-8655-945E24E2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4531E-38F5-4354-9D5F-2911FD73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16F1F-98EE-4231-8729-D04A41CF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C6B2-967A-41B2-9E58-4FAF6888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48816-E733-4BB1-9D5F-E681F159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88FDC-A572-4018-B5C9-275395F9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293E0-928D-4AFF-8D59-A9120288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EB501-E1FB-46D7-AE25-05E2B0E4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3BEAB-3177-4D6E-A2A2-BB3F5A68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CB6CD-DEB6-47A2-9A1F-A2D298DB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9ACE4-E834-4EFB-B194-AA68E0B9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50F2F-F3B1-43AF-8652-9D2206E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1A458-3322-42F4-926C-A69488C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3C3FA-08DD-47D7-97BC-CEDE9293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F91-6ACC-4955-96B4-81FB1B69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159C8-3253-4B23-A2BF-B67D1A1F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1AE62-242E-46A2-8596-C3FAF64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0462A-8F67-4114-8228-094A29B1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E0C5A-D7A8-4763-B4C5-14112F63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61BCE-E8D0-43F7-AE6D-6D4335DF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E82A8-B064-42FA-ABB4-FA99944B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18D7E-1860-4FE4-8E95-3FD7D6D7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0F624-D625-49B1-9AAF-162D1DDB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4304E-CD3D-4961-850D-414B210D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7C96E-CD3C-4DDE-915B-58848880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3F6D-5CD7-4044-94B9-4F317F6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3D33E-5B88-42CA-9561-E54C626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43DDA-EE91-4EDD-8A02-DAF17892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A9170-DE2E-4669-A4ED-58B8A2A9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667C9-7121-4D01-B32A-2942BFD4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B0069-F2A4-47F8-9378-B89AA95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2325B-D684-4639-88D8-1356627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32D4C-3CC2-484D-B9DB-D10994E1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F4A82-E2E3-49F5-90ED-791C4011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900B4-1597-4019-B6CD-BFE2324E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EF36E-8A2A-4B96-96E7-D9C6FD1E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F5B3-43CB-449B-BC7F-5FD6FE9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1B3B5-A644-40D8-95CE-FAC44C4F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7705B-89DD-4150-B425-10F3C305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70805-5F6D-499B-8134-18326D6D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875AA-81CB-4757-ADAD-6FAB2754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48DC1-6BE8-4CDD-9861-457FF0D3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EE6A2-5728-4C32-B91F-E83E3EF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9D9DE-3122-428B-8701-A90F198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98BA2-368C-487A-AE51-4B8865A8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33814-F3DC-4DDE-A92F-EF4AE368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BB7A3-E846-4FDD-BB95-5931D2E1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F4C3-5BFC-4A16-BF76-668509D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E9B51-908F-4237-B293-1EA17D55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FB6F4-5624-4F77-9CDB-4E7CEA47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E2358-D76F-4C34-8155-2159C00D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B4564-F647-4A9B-A4C8-E4716E8C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C5F6F-ECB3-4CED-8EC5-335CE019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CBBA7-2A33-46D0-A05C-E3A4BF6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4A9C3-0EA3-4124-B79C-FC127BED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88590-8A85-47D8-BABB-64B9EB0B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42730-D911-48D7-852D-DFE8F19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18EDF-399A-4792-8CB8-6C724C8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BF60-7AE1-4568-88B7-8073800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C1E0B-9103-4499-BAF9-80299F8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A82E7-0208-4908-933E-B0544A1F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3D8BF-F91A-4EFB-9E2E-1E399B7D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32980-F6C8-4A7F-8CF4-0879B633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9D50E-9238-4A94-A4C5-9EE49E52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94346-9F19-4D89-97B9-D4C7BA7D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0220E-5795-4A5B-9848-F1CCA5AC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254D0-2DA1-4E5E-89D6-4F50F934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08FD2-4A51-4461-958E-D3D7027D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8359F-727B-425B-BD30-BB145DF7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D0C-3185-4288-BEC5-D69402FA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C035-A5DC-4BB4-8CFF-8DDC570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6BC49-B2CB-4DFA-8EA2-630C10E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37EF0D-59AF-4024-9EF4-182B32AD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35E40-0B69-43A2-8B29-798C134A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07C5C-34BF-4BEA-B573-F4A10DC7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FB1A8-971E-4DEE-B428-9696450F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DD4786-151F-49EF-B2C7-D60BDA1C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83324-BBB2-421A-8D00-87ED1F18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F1D4C-42A5-49A0-B13A-53AE4CD0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3853B-5387-461E-934F-A499309B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F73B3-695A-43CF-B3CF-A732CC88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0B2F-67F4-4CB9-B7BB-226471E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CC651-F7A1-46DD-BD18-596295CD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57545-D53B-4E7C-B665-9E471A93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DB5E3-F4CF-42A2-9B99-AFE3022F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D66C6-B572-47FE-AD4D-8D8D36B6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2F257-F820-4B95-863D-9DF8B45B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B0575-3083-42E5-82A4-FED85174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7A929-7519-436B-B6B2-A11AA435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A3A29-D436-41EC-8403-9CF4510A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76918-3733-48DA-84FC-1623A890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47034-F076-4CD5-95D0-21B50BF6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0C9E-5CD6-4A24-86A8-E3B942F4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BB38D-60E5-4EE4-8804-1F9A6A8D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18E302-BE02-44FD-A70F-6128537D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B8B01-0DE1-4199-AF5C-F951E9C1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16C78-FC73-4B07-98F7-318F3C58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3F1B2-8E34-452D-B6D5-F7794EF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A60C1-6789-4B50-9CCD-EB2BB18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924E0-333C-4D5E-AC82-7A4DEA9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9D3BE-DA15-485E-B75D-7240C4AD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35270-8B02-4BF6-ADC4-32CC9787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53D4D-D56F-4564-917D-C8F4CAA1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3C65-C587-48BE-8C22-736AFA78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5B26B-5F76-434C-AA59-2D968970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B95D0-9231-49DD-89E3-188DB77F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D8048-A362-4632-BDB2-A54E6848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62789B-622C-45C9-B2F8-513611A2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55465-AEB2-4DC6-833B-4622FDE4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2CA6A-9851-4FEB-8890-DD04075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9D8E3-AC6D-4E4E-BE97-4B27338D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49104-6203-4E20-840C-89932E6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8F342-D422-4642-866C-B84D2A8A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53B98-3CE1-4D30-9E97-F03C50FE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55F5-1921-4785-983B-C5D0FF99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4084E-19C5-4B6B-B2A0-893BADF0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552F8-31FA-41A2-A1E6-792E87E3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BC6984-E196-4094-8855-604EAF98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75C56-1950-4F8E-B939-51B8E06D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747D4-D0EA-4E9C-B953-2D85679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0AEFB9-D8E8-4EFA-B160-D731826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158ED-0124-4C35-8B5D-0D9CEE30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6FE33-F812-4FE4-AF66-CD911EEA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BA6D3-97F5-4D02-8938-D4097E0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C35B1C-557C-433B-9B9F-9A77875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60F0-5711-4F9F-8174-58344599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C5FAF-711C-4150-B455-EA1B9A24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5A7DB-AE44-42BD-9DE5-F6116060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9B23C-AEA3-4115-8BB2-72EF3844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E7BE-4FE2-424A-9F26-C437589A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7764-11E5-41C0-A173-B161AF60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008B-EA5C-4922-9B8F-848756A3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E3B9-C5F1-4EA1-BB7F-C5EFF8DC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38F-6D07-4B1F-AFDF-5424B221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D00A-199D-4B1E-AAFA-C19B605A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602E-06BB-4E55-A5AD-3ABB101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13B5-332B-438B-A6F6-ECA97C4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8FE9-18C2-4B16-9F32-C0BBE57E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288E-9757-4A20-879E-29A35987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9106-495D-42D4-863D-F36A96DC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4B18-1E37-443A-8203-0B9680BA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9C1C-DADD-486A-8501-95DC7771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2A04-5030-46FA-B945-02BF7F58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B134-AC0B-437B-9315-635CF6CF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540-FB10-4899-8158-0F50693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93EA-0938-4702-A668-64A241A3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0FE5-8197-456C-A908-14013216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CE2B-C8A2-4EE6-9743-D9351EC8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06D67-08D2-4650-B588-60510DF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561A-499D-4D6E-B0DE-9C8A47B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AD43-E952-4DDC-803D-DF5777B6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2E5CA-90C3-4F79-B1F7-96577C91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CBCD-2D94-4667-B8AE-ACB41AA9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114F-6235-45EE-B3C1-15DFA0EE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7ABE-8CF3-4424-9955-C9969145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FEB-3BE7-44CE-9F54-BEFB96F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6BEEA-D804-44CA-9C0A-4B255FEA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4F8C-2256-4A8B-8FB0-9C9F76C3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C79C7-3D49-4304-A816-B5A36EAC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28D09-3B4D-4F20-B0F8-113222F4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28F7C-4023-4B8E-B9E1-01521D8F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0B46-B605-4C35-8375-FBD2712E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297AF-7EE0-4A46-9104-69D73165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322D-28F1-436C-A672-F5E18591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66A8D-21B7-4A6F-B003-A94B5C14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651A-E970-48C0-8F5C-C4F97286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48F-347D-42C0-9087-AB39C8A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F66C-52B4-4466-80CD-7BA01E97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51C12-647D-42F2-8D6D-57145F6C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ED26-903F-40CA-A8C4-E1D6C8B2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01A5-08CC-4915-BA82-EAB82B4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7F64-B9C8-4638-AF75-CCC5664D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1A5D-DC2C-44F2-942A-21BFC212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8631B-4AE2-4774-8C7C-B3697F51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FFC2F-FC16-45FC-8976-1996081C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263B-907A-4F56-BCCD-2513ECE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D58E-50ED-46AD-A16E-9A266740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840-6C78-42F3-AE1A-9B21AEE9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D6D1-0709-4886-8FFF-BFF82ADF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4A6B2-2C7D-42EB-8E96-A8FB9D02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840F1-A872-4953-8A0C-654CF3E3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4324-4B22-4210-B27D-AD009594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2E8E-0F85-44EE-A466-80FA2B8E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08B77-0764-4601-8C8B-11D431B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8F93-D4C2-43B3-A105-1ECC4901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2144-C9CB-49D7-BAD2-098EA7A9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8DC7-028D-4AE3-9A21-978F15D7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A4A6-D1DB-45A0-B176-AA237D3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4D3-42D8-4327-B639-AD05483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7D922-6854-47B7-90F6-9FFCFFF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0D7E3-C956-498D-8190-DB02BD14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C7A55-10DD-4D60-AC15-AE587350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4CCF9-787A-4284-9DFB-F95AD7BA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BF90-3869-498A-826C-EBBF6F45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2886-3836-4995-8AD6-AB6E3157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4946-5573-476C-B7C3-A1420D37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20B71-A2F4-43DC-B93E-AC5B1AFB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EFCD8-3F63-4DAD-9C4F-3FFBFB1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C6D31-AE13-4D22-A545-49C1057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515-6E7F-48BE-A517-69AA8C0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2C65F-9B85-45D9-B640-E7A182DD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3CBA9-916A-4E81-9440-3FAAB2B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48D0-3D7F-4DAB-8651-D30C22A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B2280-3EE5-408B-8A95-F3A49BF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4382D-9782-4393-82D6-C2B24F2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AD4C5-69B1-47CA-B1CB-6F0666A7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B110-35AE-437B-84EE-0FB499AF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20E4D-75DD-483B-8AF6-329CF68B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AF052-34E5-480C-9AE6-765FAB14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22BEB-8FE1-46E2-9A29-4E2AF772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F7F7-E1EE-4E79-84ED-88D386B37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8CFB-9FE1-4C5A-90A1-0C7A7C3F3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89AC-1CF0-48CE-AF68-DB03AFFC0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077-DFED-4EA0-9E8C-F0C5923B7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4FC1-2ADB-4C7A-821C-27F05B1852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2812-9486-4C5E-96CD-458603BF6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F9C1-556A-4CE8-A51F-9C869694DC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D45B-3C53-43DC-98BE-389902C95D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BB57-8DFB-4A84-8F42-F767FDF58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B60C-1A44-4F78-BEF6-7239AC5D6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460E-F6AB-45AC-9ADE-766FA45CA3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70F7-362E-4CCD-AFE6-006136050D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A2A-E29F-4ABE-8797-3B3932533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0D72-B896-4D94-A13B-E7D16D9345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FEE4-BC09-49C2-B76F-352C3E1767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5880-1AE4-49BF-A6A5-B6EB43F0F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261-00A5-4053-A04D-0E1FF3E5A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1D1-E56C-427A-B1BC-9CB7CF571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229E-7510-4410-9FDF-040BB4FDC6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4C18-F71E-4B25-AD73-97A4FA385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363-6DBA-4120-9F4F-6C0971A91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38A-2782-4B4E-AC83-86F9AEB5E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1EF-5155-4E4E-8CF4-176901D21D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03AD-5CE8-4999-98C3-11AF135600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68BE-6831-44D4-AED5-847011C43A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8F67-40C2-466F-A5C3-209EEADF9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595-A4F2-4A91-9A14-8E32D4531C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333-B34A-4188-B1DD-F7B8F631C2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2B27-EAAA-4E93-8136-75DEC09D3E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F6E9-AE3F-4344-B5BD-A1F12F07BB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AEC5-E56C-4E73-91BF-1AFC3913D2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D768-1BD4-40CD-A5C5-75F3DE93F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E632-D42D-4C86-BDB7-A1845F0312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0A19-9F10-41A7-95D1-739050F62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CFB9-4FB2-48DB-A24D-ADDAC68EB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A5E3-54EE-4C2B-BF17-5D7E7F02D7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B701-5783-4F47-B279-9881F70D5D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92D-9D66-48C1-9417-F3713C6E5F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CE4A-4E02-4D60-A7D6-E27B125F0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9062-48E7-44F4-A891-6CE32A3EF9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9" descr=""/>
          <p:cNvPicPr/>
          <p:nvPr/>
        </p:nvPicPr>
        <p:blipFill>
          <a:blip r:embed="rId1"/>
          <a:stretch/>
        </p:blipFill>
        <p:spPr>
          <a:xfrm>
            <a:off x="790560" y="3000240"/>
            <a:ext cx="75628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9633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8639280" cy="61815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539640" y="1657440"/>
            <a:ext cx="8425080" cy="8935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8424720" cy="8935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324000" y="3514680"/>
            <a:ext cx="4824360" cy="8938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5219640" y="3559320"/>
            <a:ext cx="3673440" cy="8935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309600" y="4479840"/>
            <a:ext cx="2232000" cy="8938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7"/>
          <a:stretch/>
        </p:blipFill>
        <p:spPr>
          <a:xfrm>
            <a:off x="2556000" y="4695840"/>
            <a:ext cx="2232000" cy="500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8"/>
          <a:stretch/>
        </p:blipFill>
        <p:spPr>
          <a:xfrm>
            <a:off x="4788000" y="4667400"/>
            <a:ext cx="2232000" cy="500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9"/>
          <a:stretch/>
        </p:blipFill>
        <p:spPr>
          <a:xfrm>
            <a:off x="7020000" y="4653000"/>
            <a:ext cx="1873080" cy="5000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10"/>
          <a:stretch/>
        </p:blipFill>
        <p:spPr>
          <a:xfrm>
            <a:off x="757080" y="5388120"/>
            <a:ext cx="1150920" cy="500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11"/>
          <a:stretch/>
        </p:blipFill>
        <p:spPr>
          <a:xfrm>
            <a:off x="1965240" y="5373720"/>
            <a:ext cx="2175120" cy="500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12"/>
          <a:stretch/>
        </p:blipFill>
        <p:spPr>
          <a:xfrm>
            <a:off x="4211640" y="5373720"/>
            <a:ext cx="3673440" cy="500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13"/>
          <a:stretch/>
        </p:blipFill>
        <p:spPr>
          <a:xfrm>
            <a:off x="7956720" y="5373720"/>
            <a:ext cx="1008000" cy="500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14"/>
          <a:stretch/>
        </p:blipFill>
        <p:spPr>
          <a:xfrm>
            <a:off x="900000" y="5934240"/>
            <a:ext cx="2951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8609" descr=""/>
          <p:cNvPicPr/>
          <p:nvPr/>
        </p:nvPicPr>
        <p:blipFill>
          <a:blip r:embed="rId1"/>
          <a:stretch/>
        </p:blipFill>
        <p:spPr>
          <a:xfrm>
            <a:off x="257040" y="731880"/>
            <a:ext cx="8629920" cy="5505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8028000" y="227664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8028000" y="4508640"/>
            <a:ext cx="561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67585" descr=""/>
          <p:cNvPicPr/>
          <p:nvPr/>
        </p:nvPicPr>
        <p:blipFill>
          <a:blip r:embed="rId1"/>
          <a:stretch/>
        </p:blipFill>
        <p:spPr>
          <a:xfrm>
            <a:off x="290520" y="1085760"/>
            <a:ext cx="8562960" cy="46864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7380360" y="1168560"/>
            <a:ext cx="936720" cy="500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784080" y="3371760"/>
            <a:ext cx="7272360" cy="500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8086680" y="3400560"/>
            <a:ext cx="878040" cy="500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5"/>
          <a:stretch/>
        </p:blipFill>
        <p:spPr>
          <a:xfrm>
            <a:off x="423720" y="4149720"/>
            <a:ext cx="878040" cy="500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6"/>
          <a:stretch/>
        </p:blipFill>
        <p:spPr>
          <a:xfrm>
            <a:off x="1332000" y="4048200"/>
            <a:ext cx="1152360" cy="7491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7"/>
          <a:stretch/>
        </p:blipFill>
        <p:spPr>
          <a:xfrm>
            <a:off x="2484360" y="4048200"/>
            <a:ext cx="4464000" cy="7491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8"/>
          <a:stretch/>
        </p:blipFill>
        <p:spPr>
          <a:xfrm>
            <a:off x="6962760" y="4091040"/>
            <a:ext cx="2181240" cy="500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9"/>
          <a:stretch/>
        </p:blipFill>
        <p:spPr>
          <a:xfrm>
            <a:off x="395280" y="4941720"/>
            <a:ext cx="44640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66561" descr=""/>
          <p:cNvPicPr/>
          <p:nvPr/>
        </p:nvPicPr>
        <p:blipFill>
          <a:blip r:embed="rId1"/>
          <a:stretch/>
        </p:blipFill>
        <p:spPr>
          <a:xfrm>
            <a:off x="547560" y="1933560"/>
            <a:ext cx="8048880" cy="29908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2"/>
          <a:stretch/>
        </p:blipFill>
        <p:spPr>
          <a:xfrm>
            <a:off x="539640" y="308304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3"/>
          <a:stretch/>
        </p:blipFill>
        <p:spPr>
          <a:xfrm>
            <a:off x="453960" y="3645000"/>
            <a:ext cx="2016360" cy="500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4"/>
          <a:stretch/>
        </p:blipFill>
        <p:spPr>
          <a:xfrm>
            <a:off x="2470320" y="3659040"/>
            <a:ext cx="4981320" cy="5000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5"/>
          <a:stretch/>
        </p:blipFill>
        <p:spPr>
          <a:xfrm>
            <a:off x="7451640" y="3630600"/>
            <a:ext cx="1368360" cy="500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6"/>
          <a:stretch/>
        </p:blipFill>
        <p:spPr>
          <a:xfrm>
            <a:off x="395280" y="4164120"/>
            <a:ext cx="4897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65537" descr=""/>
          <p:cNvPicPr/>
          <p:nvPr/>
        </p:nvPicPr>
        <p:blipFill>
          <a:blip r:embed="rId1"/>
          <a:stretch/>
        </p:blipFill>
        <p:spPr>
          <a:xfrm>
            <a:off x="361800" y="189000"/>
            <a:ext cx="8591760" cy="442908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65538" descr=""/>
          <p:cNvPicPr/>
          <p:nvPr/>
        </p:nvPicPr>
        <p:blipFill>
          <a:blip r:embed="rId2"/>
          <a:stretch/>
        </p:blipFill>
        <p:spPr>
          <a:xfrm>
            <a:off x="878040" y="4869000"/>
            <a:ext cx="8086680" cy="18288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3"/>
          <a:stretch/>
        </p:blipFill>
        <p:spPr>
          <a:xfrm>
            <a:off x="900000" y="3270240"/>
            <a:ext cx="8064720" cy="500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4"/>
          <a:stretch/>
        </p:blipFill>
        <p:spPr>
          <a:xfrm>
            <a:off x="684360" y="3948120"/>
            <a:ext cx="4679640" cy="500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5"/>
          <a:stretch/>
        </p:blipFill>
        <p:spPr>
          <a:xfrm>
            <a:off x="5435640" y="3846600"/>
            <a:ext cx="3708360" cy="8064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6"/>
          <a:stretch/>
        </p:blipFill>
        <p:spPr>
          <a:xfrm>
            <a:off x="596880" y="4840200"/>
            <a:ext cx="1944720" cy="806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7"/>
          <a:stretch/>
        </p:blipFill>
        <p:spPr>
          <a:xfrm>
            <a:off x="2541600" y="4941720"/>
            <a:ext cx="2174760" cy="500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8"/>
          <a:stretch/>
        </p:blipFill>
        <p:spPr>
          <a:xfrm>
            <a:off x="4759200" y="4998960"/>
            <a:ext cx="4205520" cy="5000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9"/>
          <a:stretch/>
        </p:blipFill>
        <p:spPr>
          <a:xfrm>
            <a:off x="826920" y="5719680"/>
            <a:ext cx="4205520" cy="500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10"/>
          <a:stretch/>
        </p:blipFill>
        <p:spPr>
          <a:xfrm>
            <a:off x="611280" y="6208560"/>
            <a:ext cx="65530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图片 64513" descr=""/>
          <p:cNvPicPr/>
          <p:nvPr/>
        </p:nvPicPr>
        <p:blipFill>
          <a:blip r:embed="rId1"/>
          <a:stretch/>
        </p:blipFill>
        <p:spPr>
          <a:xfrm>
            <a:off x="314280" y="190440"/>
            <a:ext cx="8629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63489" descr=""/>
          <p:cNvPicPr/>
          <p:nvPr/>
        </p:nvPicPr>
        <p:blipFill>
          <a:blip r:embed="rId1"/>
          <a:stretch/>
        </p:blipFill>
        <p:spPr>
          <a:xfrm>
            <a:off x="500040" y="689040"/>
            <a:ext cx="8143920" cy="61246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209080" cy="5004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8209080" cy="7920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8208720" cy="11523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8208720" cy="5004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6"/>
          <a:stretch/>
        </p:blipFill>
        <p:spPr>
          <a:xfrm>
            <a:off x="539640" y="4437000"/>
            <a:ext cx="8209080" cy="5000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7"/>
          <a:stretch/>
        </p:blipFill>
        <p:spPr>
          <a:xfrm>
            <a:off x="395280" y="4998960"/>
            <a:ext cx="8209080" cy="8064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8"/>
          <a:stretch/>
        </p:blipFill>
        <p:spPr>
          <a:xfrm>
            <a:off x="611280" y="5819760"/>
            <a:ext cx="8208720" cy="5000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9"/>
          <a:stretch/>
        </p:blipFill>
        <p:spPr>
          <a:xfrm>
            <a:off x="539640" y="6343560"/>
            <a:ext cx="82090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62465" descr=""/>
          <p:cNvPicPr/>
          <p:nvPr/>
        </p:nvPicPr>
        <p:blipFill>
          <a:blip r:embed="rId1"/>
          <a:stretch/>
        </p:blipFill>
        <p:spPr>
          <a:xfrm>
            <a:off x="566640" y="750960"/>
            <a:ext cx="8010720" cy="5991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468360" y="70812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2592360" cy="5000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2916360" y="2751120"/>
            <a:ext cx="5759280" cy="5000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468360" y="3284640"/>
            <a:ext cx="5759280" cy="5000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9"/>
          <a:stretch/>
        </p:blipFill>
        <p:spPr>
          <a:xfrm>
            <a:off x="395280" y="380376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0"/>
          <a:stretch/>
        </p:blipFill>
        <p:spPr>
          <a:xfrm>
            <a:off x="250920" y="432108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1"/>
          <a:stretch/>
        </p:blipFill>
        <p:spPr>
          <a:xfrm>
            <a:off x="324000" y="4811760"/>
            <a:ext cx="8424720" cy="922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2"/>
          <a:stretch/>
        </p:blipFill>
        <p:spPr>
          <a:xfrm>
            <a:off x="468360" y="5719680"/>
            <a:ext cx="8207280" cy="5000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13"/>
          <a:stretch/>
        </p:blipFill>
        <p:spPr>
          <a:xfrm>
            <a:off x="395280" y="6315120"/>
            <a:ext cx="8207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61441" descr=""/>
          <p:cNvPicPr/>
          <p:nvPr/>
        </p:nvPicPr>
        <p:blipFill>
          <a:blip r:embed="rId1"/>
          <a:stretch/>
        </p:blipFill>
        <p:spPr>
          <a:xfrm>
            <a:off x="581040" y="1919160"/>
            <a:ext cx="7981920" cy="30196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468360" y="292428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539640" y="393228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539640" y="4437000"/>
            <a:ext cx="8136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57040" y="928800"/>
            <a:ext cx="8629920" cy="5000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692360" y="3529080"/>
            <a:ext cx="1224000" cy="8650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900000" y="5329080"/>
            <a:ext cx="56196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52360" y="728640"/>
            <a:ext cx="8639280" cy="5400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8101080" y="134136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8028000" y="4724280"/>
            <a:ext cx="561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8373" descr=""/>
          <p:cNvPicPr/>
          <p:nvPr/>
        </p:nvPicPr>
        <p:blipFill>
          <a:blip r:embed="rId1"/>
          <a:stretch/>
        </p:blipFill>
        <p:spPr>
          <a:xfrm>
            <a:off x="247680" y="743040"/>
            <a:ext cx="8648640" cy="5371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7956720" y="90792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8028000" y="306864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755640" y="5172120"/>
            <a:ext cx="13683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7352" descr=""/>
          <p:cNvPicPr/>
          <p:nvPr/>
        </p:nvPicPr>
        <p:blipFill>
          <a:blip r:embed="rId1"/>
          <a:stretch/>
        </p:blipFill>
        <p:spPr>
          <a:xfrm>
            <a:off x="237960" y="1709640"/>
            <a:ext cx="8668080" cy="3438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804000" y="170028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935280" cy="500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7524720" y="3832200"/>
            <a:ext cx="1440000" cy="500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1440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6324" descr=""/>
          <p:cNvPicPr/>
          <p:nvPr/>
        </p:nvPicPr>
        <p:blipFill>
          <a:blip r:embed="rId1"/>
          <a:stretch/>
        </p:blipFill>
        <p:spPr>
          <a:xfrm>
            <a:off x="324000" y="766800"/>
            <a:ext cx="8496000" cy="5324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042920" y="2952720"/>
            <a:ext cx="2089080" cy="500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669960" y="5129280"/>
            <a:ext cx="5111640" cy="963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5767560" y="5157720"/>
            <a:ext cx="30524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5300" descr=""/>
          <p:cNvPicPr/>
          <p:nvPr/>
        </p:nvPicPr>
        <p:blipFill>
          <a:blip r:embed="rId1"/>
          <a:stretch/>
        </p:blipFill>
        <p:spPr>
          <a:xfrm>
            <a:off x="561960" y="1262160"/>
            <a:ext cx="8020080" cy="43336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539640" y="2449440"/>
            <a:ext cx="8209080" cy="763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264960" y="3414600"/>
            <a:ext cx="2017800" cy="763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2268360" y="3386160"/>
            <a:ext cx="6407280" cy="763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468360" y="4365720"/>
            <a:ext cx="64072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4276" descr=""/>
          <p:cNvPicPr/>
          <p:nvPr/>
        </p:nvPicPr>
        <p:blipFill>
          <a:blip r:embed="rId1"/>
          <a:stretch/>
        </p:blipFill>
        <p:spPr>
          <a:xfrm>
            <a:off x="299880" y="1214280"/>
            <a:ext cx="8544240" cy="44294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8281800" cy="792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95280" y="3774960"/>
            <a:ext cx="3456000" cy="792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3851280" y="3774960"/>
            <a:ext cx="1728720" cy="792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651640" y="3905280"/>
            <a:ext cx="3241440" cy="500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611280" y="4724280"/>
            <a:ext cx="32414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52231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8639280" cy="63720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826920" y="2693880"/>
            <a:ext cx="8137800" cy="8654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611280" y="3587760"/>
            <a:ext cx="4681440" cy="865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3166920" cy="865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8582040" y="378936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755640" y="4624560"/>
            <a:ext cx="3095640" cy="10364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3879720" y="4797360"/>
            <a:ext cx="2563920" cy="500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6516720" y="4854600"/>
            <a:ext cx="2448000" cy="500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9"/>
          <a:stretch/>
        </p:blipFill>
        <p:spPr>
          <a:xfrm>
            <a:off x="900000" y="5675400"/>
            <a:ext cx="244800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12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